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67908-B200-4B00-B4F7-BA8AE6D15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365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441960"/>
            <a:ext cx="365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789BD-D3EC-44E1-AB06-218A338E2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233172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E68CC-90FF-4EB9-94CA-5F6464ECC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694160" y="45684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930760" y="45684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44196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1694160" y="344196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2930760" y="344196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76695-3D0E-46C1-992E-0D5B5C72A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88BF7B-D4F3-4956-A438-A9583BA76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F31888-DAC4-4390-9AA1-031F11C87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B135B1-D2C1-4A98-843C-5BA65A6B4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19047A-C3B0-44E4-9D5A-CB11CE92A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C8218A-6B2B-4155-B19C-C7C842BCD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876560" y="6845040"/>
            <a:ext cx="281916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E7912A-0299-408D-8A3D-E0F183717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7E349B-494B-42E5-9530-75819817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23277-6044-4BD0-8A0D-9C1EBE576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33172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8E0ABD-6AA1-45B0-A290-392F18CA3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441960"/>
            <a:ext cx="365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64FDE6-0EB9-41CD-9708-D39A64D52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365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441960"/>
            <a:ext cx="365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9C5BB2-D789-4837-993F-2A1153311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233172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A893EF-A080-47F4-8931-E93DC9414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694160" y="45684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930760" y="45684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44196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1694160" y="344196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2930760" y="344196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2386CE-9869-42A5-8251-6535F4ADD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80CE3D-BE1E-4F49-B320-0089532F1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E7F082-491E-41D1-B24E-3AD0E768D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EDE1E9-7CFE-421F-B24D-B602EC0A5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9626C4-9AE0-4169-B744-E97F21BB6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7A9D54-C583-49D3-B96B-8A14E2F50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CE878-78B9-43ED-9681-946ABA0B4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876560" y="6845040"/>
            <a:ext cx="281916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FD3BAC-4776-48A0-899B-5AFAD4550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07E341-FBE2-4BB3-A287-A2A75839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33172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6CEDDB-A236-4282-9349-43EF0CFA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441960"/>
            <a:ext cx="365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5A1F6E-8C01-4574-BA15-1BBBF4510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365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441960"/>
            <a:ext cx="365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D2D00B-D707-49F5-8E28-87DE0F8EF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233172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6419E9-6A0E-4B75-B6FD-808A448BA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694160" y="45684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2930760" y="45684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44196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1694160" y="344196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2930760" y="344196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3DCC95-B7F4-44DD-878C-A7B1E2C3E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EBB53-5B16-42A9-ACD2-202DF6F43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3DA1B-E93B-4F90-9684-D50D005CF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876560" y="6845040"/>
            <a:ext cx="281916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3A8E5-F8B8-4F1E-9AFD-0A6532537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3EA3D-7C5A-4F7D-AF04-8864E7A3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33172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FA6A9-4A23-46C8-8AF9-FFEFE497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441960"/>
            <a:ext cx="365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D3C60-38A8-4E27-B117-84CABD363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sphere2.png"/>
          <p:cNvPicPr/>
          <p:nvPr/>
        </p:nvPicPr>
        <p:blipFill>
          <a:blip r:embed="rId2"/>
          <a:stretch/>
        </p:blipFill>
        <p:spPr>
          <a:xfrm>
            <a:off x="8823240" y="0"/>
            <a:ext cx="3207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8252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1112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59364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77616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95868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958680" indent="-1825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958680" indent="-1825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772400" y="6400440"/>
            <a:ext cx="5335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2DD75-E98A-4C99-9CFC-85DD87B6CE2F}" type="slidenum">
              <a:rPr b="1" lang="en-US" sz="10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4876560" y="6426360"/>
            <a:ext cx="2819160" cy="1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4875120" y="6295680"/>
            <a:ext cx="28209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1" descr="sphere2.png"/>
          <p:cNvPicPr/>
          <p:nvPr/>
        </p:nvPicPr>
        <p:blipFill>
          <a:blip r:embed="rId2"/>
          <a:stretch/>
        </p:blipFill>
        <p:spPr>
          <a:xfrm>
            <a:off x="8823240" y="0"/>
            <a:ext cx="32076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sphere1.png"/>
          <p:cNvPicPr/>
          <p:nvPr/>
        </p:nvPicPr>
        <p:blipFill>
          <a:blip r:embed="rId3"/>
          <a:stretch/>
        </p:blipFill>
        <p:spPr>
          <a:xfrm>
            <a:off x="6850080" y="0"/>
            <a:ext cx="22939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8252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1112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59364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77616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95868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958680" indent="-1825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958680" indent="-1825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582720" y="6426360"/>
            <a:ext cx="2819160" cy="1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6415200" y="6400440"/>
            <a:ext cx="45720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6726F-5035-4258-8B10-E9BE28FE8781}" type="slidenum">
              <a:rPr b="1" lang="en-US" sz="10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3581280" y="6295680"/>
            <a:ext cx="28209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0" descr="sphere1.png"/>
          <p:cNvPicPr/>
          <p:nvPr/>
        </p:nvPicPr>
        <p:blipFill>
          <a:blip r:embed="rId2"/>
          <a:stretch/>
        </p:blipFill>
        <p:spPr>
          <a:xfrm>
            <a:off x="6858000" y="0"/>
            <a:ext cx="229392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8252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1112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59364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77616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958680" indent="-18252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958680" indent="-1825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958680" indent="-1825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839520" y="6426360"/>
            <a:ext cx="2819160" cy="1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8"/>
          </p:nvPr>
        </p:nvSpPr>
        <p:spPr>
          <a:xfrm>
            <a:off x="4116240" y="6400440"/>
            <a:ext cx="5335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9C71B-2646-491F-BF44-6B69220CBE84}" type="slidenum">
              <a:rPr b="1" lang="en-US" sz="10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9"/>
          </p:nvPr>
        </p:nvSpPr>
        <p:spPr>
          <a:xfrm>
            <a:off x="838080" y="6295680"/>
            <a:ext cx="28209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808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9000"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Which President was elected unanimously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22"/>
          <p:cNvSpPr/>
          <p:nvPr/>
        </p:nvSpPr>
        <p:spPr>
          <a:xfrm>
            <a:off x="990720" y="5195880"/>
            <a:ext cx="4876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Correct</a:t>
            </a:r>
            <a:endParaRPr b="1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3"/>
          <p:cNvGrpSpPr/>
          <p:nvPr/>
        </p:nvGrpSpPr>
        <p:grpSpPr>
          <a:xfrm>
            <a:off x="533520" y="2743200"/>
            <a:ext cx="1360440" cy="2350080"/>
            <a:chOff x="533520" y="2743200"/>
            <a:chExt cx="1360440" cy="2350080"/>
          </a:xfrm>
        </p:grpSpPr>
        <p:pic>
          <p:nvPicPr>
            <p:cNvPr id="130" name="Picture 1" descr=""/>
            <p:cNvPicPr/>
            <p:nvPr/>
          </p:nvPicPr>
          <p:blipFill>
            <a:blip r:embed="rId1"/>
            <a:stretch/>
          </p:blipFill>
          <p:spPr>
            <a:xfrm>
              <a:off x="533520" y="2743200"/>
              <a:ext cx="1360440" cy="177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Box 2"/>
            <p:cNvSpPr/>
            <p:nvPr/>
          </p:nvSpPr>
          <p:spPr>
            <a:xfrm>
              <a:off x="533520" y="4725000"/>
              <a:ext cx="136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dison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8"/>
          <p:cNvGrpSpPr/>
          <p:nvPr/>
        </p:nvGrpSpPr>
        <p:grpSpPr>
          <a:xfrm>
            <a:off x="2362320" y="2743200"/>
            <a:ext cx="1347840" cy="2381760"/>
            <a:chOff x="2362320" y="2743200"/>
            <a:chExt cx="1347840" cy="2381760"/>
          </a:xfrm>
        </p:grpSpPr>
        <p:pic>
          <p:nvPicPr>
            <p:cNvPr id="133" name="Picture 4" descr=""/>
            <p:cNvPicPr/>
            <p:nvPr/>
          </p:nvPicPr>
          <p:blipFill>
            <a:blip r:embed="rId2"/>
            <a:stretch/>
          </p:blipFill>
          <p:spPr>
            <a:xfrm>
              <a:off x="2362320" y="2743200"/>
              <a:ext cx="1347840" cy="177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Box 7"/>
            <p:cNvSpPr/>
            <p:nvPr/>
          </p:nvSpPr>
          <p:spPr>
            <a:xfrm>
              <a:off x="2365920" y="4756680"/>
              <a:ext cx="134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ams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Group 9"/>
          <p:cNvGrpSpPr/>
          <p:nvPr/>
        </p:nvGrpSpPr>
        <p:grpSpPr>
          <a:xfrm>
            <a:off x="4086360" y="2743200"/>
            <a:ext cx="1528560" cy="2381760"/>
            <a:chOff x="4086360" y="2743200"/>
            <a:chExt cx="1528560" cy="2381760"/>
          </a:xfrm>
        </p:grpSpPr>
        <p:pic>
          <p:nvPicPr>
            <p:cNvPr id="136" name="Picture 5" descr=""/>
            <p:cNvPicPr/>
            <p:nvPr/>
          </p:nvPicPr>
          <p:blipFill>
            <a:blip r:embed="rId3"/>
            <a:stretch/>
          </p:blipFill>
          <p:spPr>
            <a:xfrm>
              <a:off x="4086360" y="2743200"/>
              <a:ext cx="1528560" cy="177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Box 28"/>
            <p:cNvSpPr/>
            <p:nvPr/>
          </p:nvSpPr>
          <p:spPr>
            <a:xfrm>
              <a:off x="4086360" y="4756680"/>
              <a:ext cx="152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ashington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10"/>
          <p:cNvGrpSpPr/>
          <p:nvPr/>
        </p:nvGrpSpPr>
        <p:grpSpPr>
          <a:xfrm>
            <a:off x="6248520" y="2743200"/>
            <a:ext cx="1485720" cy="2390040"/>
            <a:chOff x="6248520" y="2743200"/>
            <a:chExt cx="1485720" cy="2390040"/>
          </a:xfrm>
        </p:grpSpPr>
        <p:pic>
          <p:nvPicPr>
            <p:cNvPr id="139" name="Picture 6" descr=""/>
            <p:cNvPicPr/>
            <p:nvPr/>
          </p:nvPicPr>
          <p:blipFill>
            <a:blip r:embed="rId4"/>
            <a:stretch/>
          </p:blipFill>
          <p:spPr>
            <a:xfrm>
              <a:off x="6248520" y="2743200"/>
              <a:ext cx="1485720" cy="177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Box 29"/>
            <p:cNvSpPr/>
            <p:nvPr/>
          </p:nvSpPr>
          <p:spPr>
            <a:xfrm>
              <a:off x="6252120" y="4764960"/>
              <a:ext cx="148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incoln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AutoShape 23"/>
          <p:cNvGrpSpPr/>
          <p:nvPr/>
        </p:nvGrpSpPr>
        <p:grpSpPr>
          <a:xfrm>
            <a:off x="7454880" y="6004080"/>
            <a:ext cx="866880" cy="641160"/>
            <a:chOff x="7454880" y="6004080"/>
            <a:chExt cx="866880" cy="641160"/>
          </a:xfrm>
        </p:grpSpPr>
        <p:pic>
          <p:nvPicPr>
            <p:cNvPr id="142" name="AutoShape 23" descr="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7454880" y="6004080"/>
              <a:ext cx="866880" cy="64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7467480" y="6019920"/>
              <a:ext cx="8384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30" nodeType="clickEffect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38" nodeType="clickEffect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46" nodeType="clickEffect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808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7000"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Which President was known as the “Father of the Constitution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 Box 22"/>
          <p:cNvSpPr/>
          <p:nvPr/>
        </p:nvSpPr>
        <p:spPr>
          <a:xfrm>
            <a:off x="1066680" y="5214960"/>
            <a:ext cx="487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Correct!</a:t>
            </a:r>
            <a:endParaRPr b="1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AutoShape 23"/>
          <p:cNvGrpSpPr/>
          <p:nvPr/>
        </p:nvGrpSpPr>
        <p:grpSpPr>
          <a:xfrm>
            <a:off x="7454880" y="6004080"/>
            <a:ext cx="866880" cy="641160"/>
            <a:chOff x="7454880" y="6004080"/>
            <a:chExt cx="866880" cy="641160"/>
          </a:xfrm>
        </p:grpSpPr>
        <p:pic>
          <p:nvPicPr>
            <p:cNvPr id="147" name="AutoShape 23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7454880" y="6004080"/>
              <a:ext cx="866880" cy="64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7467480" y="6019920"/>
              <a:ext cx="8384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4"/>
          <p:cNvGrpSpPr/>
          <p:nvPr/>
        </p:nvGrpSpPr>
        <p:grpSpPr>
          <a:xfrm>
            <a:off x="533520" y="2743200"/>
            <a:ext cx="1360440" cy="2350080"/>
            <a:chOff x="533520" y="2743200"/>
            <a:chExt cx="1360440" cy="2350080"/>
          </a:xfrm>
        </p:grpSpPr>
        <p:pic>
          <p:nvPicPr>
            <p:cNvPr id="150" name="Picture 5" descr=""/>
            <p:cNvPicPr/>
            <p:nvPr/>
          </p:nvPicPr>
          <p:blipFill>
            <a:blip r:embed="rId2"/>
            <a:stretch/>
          </p:blipFill>
          <p:spPr>
            <a:xfrm>
              <a:off x="533520" y="2743200"/>
              <a:ext cx="1360440" cy="177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TextBox 6"/>
            <p:cNvSpPr/>
            <p:nvPr/>
          </p:nvSpPr>
          <p:spPr>
            <a:xfrm>
              <a:off x="533520" y="4725000"/>
              <a:ext cx="136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dison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7"/>
          <p:cNvGrpSpPr/>
          <p:nvPr/>
        </p:nvGrpSpPr>
        <p:grpSpPr>
          <a:xfrm>
            <a:off x="2365200" y="2711520"/>
            <a:ext cx="1347840" cy="2381760"/>
            <a:chOff x="2365200" y="2711520"/>
            <a:chExt cx="1347840" cy="2381760"/>
          </a:xfrm>
        </p:grpSpPr>
        <p:pic>
          <p:nvPicPr>
            <p:cNvPr id="153" name="Picture 8" descr=""/>
            <p:cNvPicPr/>
            <p:nvPr/>
          </p:nvPicPr>
          <p:blipFill>
            <a:blip r:embed="rId3"/>
            <a:stretch/>
          </p:blipFill>
          <p:spPr>
            <a:xfrm>
              <a:off x="2365200" y="2711520"/>
              <a:ext cx="1347840" cy="177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TextBox 9"/>
            <p:cNvSpPr/>
            <p:nvPr/>
          </p:nvSpPr>
          <p:spPr>
            <a:xfrm>
              <a:off x="2368800" y="4725000"/>
              <a:ext cx="134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ams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10"/>
          <p:cNvGrpSpPr/>
          <p:nvPr/>
        </p:nvGrpSpPr>
        <p:grpSpPr>
          <a:xfrm>
            <a:off x="4086360" y="2743200"/>
            <a:ext cx="1528560" cy="2381760"/>
            <a:chOff x="4086360" y="2743200"/>
            <a:chExt cx="1528560" cy="2381760"/>
          </a:xfrm>
        </p:grpSpPr>
        <p:pic>
          <p:nvPicPr>
            <p:cNvPr id="156" name="Picture 11" descr=""/>
            <p:cNvPicPr/>
            <p:nvPr/>
          </p:nvPicPr>
          <p:blipFill>
            <a:blip r:embed="rId4"/>
            <a:stretch/>
          </p:blipFill>
          <p:spPr>
            <a:xfrm>
              <a:off x="4086360" y="2743200"/>
              <a:ext cx="1528560" cy="177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TextBox 12"/>
            <p:cNvSpPr/>
            <p:nvPr/>
          </p:nvSpPr>
          <p:spPr>
            <a:xfrm>
              <a:off x="4086360" y="4756680"/>
              <a:ext cx="152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ashington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Group 13"/>
          <p:cNvGrpSpPr/>
          <p:nvPr/>
        </p:nvGrpSpPr>
        <p:grpSpPr>
          <a:xfrm>
            <a:off x="6248520" y="2743200"/>
            <a:ext cx="1485720" cy="2390040"/>
            <a:chOff x="6248520" y="2743200"/>
            <a:chExt cx="1485720" cy="2390040"/>
          </a:xfrm>
        </p:grpSpPr>
        <p:pic>
          <p:nvPicPr>
            <p:cNvPr id="159" name="Picture 14" descr=""/>
            <p:cNvPicPr/>
            <p:nvPr/>
          </p:nvPicPr>
          <p:blipFill>
            <a:blip r:embed="rId5"/>
            <a:stretch/>
          </p:blipFill>
          <p:spPr>
            <a:xfrm>
              <a:off x="6248520" y="2743200"/>
              <a:ext cx="1485720" cy="177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TextBox 15"/>
            <p:cNvSpPr/>
            <p:nvPr/>
          </p:nvSpPr>
          <p:spPr>
            <a:xfrm>
              <a:off x="6252120" y="4764960"/>
              <a:ext cx="148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incoln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53" dur="indefinite" restart="never" nodeType="tmRoot">
          <p:childTnLst>
            <p:seq>
              <p:cTn id="54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55" nodeType="clickEffect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80" nodeType="clickEffect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88" nodeType="clickEffect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96" nodeType="clickEffect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457200" y="8377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What is the term of a U.S. Senator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2666880" y="457200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yea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5"/>
          <p:cNvSpPr/>
          <p:nvPr/>
        </p:nvSpPr>
        <p:spPr>
          <a:xfrm>
            <a:off x="2590920" y="4648320"/>
            <a:ext cx="53316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3276720" y="39625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 yea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9"/>
          <p:cNvSpPr/>
          <p:nvPr/>
        </p:nvSpPr>
        <p:spPr>
          <a:xfrm>
            <a:off x="2590920" y="3429000"/>
            <a:ext cx="53316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0"/>
          <p:cNvSpPr/>
          <p:nvPr/>
        </p:nvSpPr>
        <p:spPr>
          <a:xfrm>
            <a:off x="2590920" y="4038480"/>
            <a:ext cx="53316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1"/>
          <p:cNvSpPr/>
          <p:nvPr/>
        </p:nvSpPr>
        <p:spPr>
          <a:xfrm>
            <a:off x="2590920" y="5257800"/>
            <a:ext cx="53316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3276720" y="51814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 yea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3"/>
          <p:cNvSpPr/>
          <p:nvPr/>
        </p:nvSpPr>
        <p:spPr>
          <a:xfrm>
            <a:off x="3276720" y="33526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 yea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17"/>
          <p:cNvGrpSpPr/>
          <p:nvPr/>
        </p:nvGrpSpPr>
        <p:grpSpPr>
          <a:xfrm>
            <a:off x="3581280" y="3352320"/>
            <a:ext cx="762120" cy="686160"/>
            <a:chOff x="3581280" y="3352320"/>
            <a:chExt cx="762120" cy="686160"/>
          </a:xfrm>
        </p:grpSpPr>
        <p:sp>
          <p:nvSpPr>
            <p:cNvPr id="171" name="Line 15"/>
            <p:cNvSpPr/>
            <p:nvPr/>
          </p:nvSpPr>
          <p:spPr>
            <a:xfrm>
              <a:off x="3581280" y="3428640"/>
              <a:ext cx="762120" cy="6098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16"/>
            <p:cNvSpPr/>
            <p:nvPr/>
          </p:nvSpPr>
          <p:spPr>
            <a:xfrm flipV="1">
              <a:off x="3581280" y="3352320"/>
              <a:ext cx="685800" cy="685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18"/>
          <p:cNvGrpSpPr/>
          <p:nvPr/>
        </p:nvGrpSpPr>
        <p:grpSpPr>
          <a:xfrm>
            <a:off x="3505320" y="3962160"/>
            <a:ext cx="761760" cy="686160"/>
            <a:chOff x="3505320" y="3962160"/>
            <a:chExt cx="761760" cy="686160"/>
          </a:xfrm>
        </p:grpSpPr>
        <p:sp>
          <p:nvSpPr>
            <p:cNvPr id="174" name="Line 19"/>
            <p:cNvSpPr/>
            <p:nvPr/>
          </p:nvSpPr>
          <p:spPr>
            <a:xfrm>
              <a:off x="3505320" y="4038480"/>
              <a:ext cx="761760" cy="6098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20"/>
            <p:cNvSpPr/>
            <p:nvPr/>
          </p:nvSpPr>
          <p:spPr>
            <a:xfrm flipV="1">
              <a:off x="3505320" y="3962160"/>
              <a:ext cx="685440" cy="685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21"/>
          <p:cNvGrpSpPr/>
          <p:nvPr/>
        </p:nvGrpSpPr>
        <p:grpSpPr>
          <a:xfrm>
            <a:off x="3581280" y="4495320"/>
            <a:ext cx="762120" cy="686160"/>
            <a:chOff x="3581280" y="4495320"/>
            <a:chExt cx="762120" cy="686160"/>
          </a:xfrm>
        </p:grpSpPr>
        <p:sp>
          <p:nvSpPr>
            <p:cNvPr id="177" name="Line 22"/>
            <p:cNvSpPr/>
            <p:nvPr/>
          </p:nvSpPr>
          <p:spPr>
            <a:xfrm>
              <a:off x="3581280" y="4571640"/>
              <a:ext cx="762120" cy="6098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3"/>
            <p:cNvSpPr/>
            <p:nvPr/>
          </p:nvSpPr>
          <p:spPr>
            <a:xfrm flipV="1">
              <a:off x="3581280" y="4495320"/>
              <a:ext cx="685800" cy="685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 Box 25"/>
          <p:cNvSpPr/>
          <p:nvPr/>
        </p:nvSpPr>
        <p:spPr>
          <a:xfrm>
            <a:off x="3200400" y="3276720"/>
            <a:ext cx="419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Correct</a:t>
            </a:r>
            <a:endParaRPr b="1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AutoShape 23"/>
          <p:cNvGrpSpPr/>
          <p:nvPr/>
        </p:nvGrpSpPr>
        <p:grpSpPr>
          <a:xfrm>
            <a:off x="7454880" y="6004080"/>
            <a:ext cx="866880" cy="641160"/>
            <a:chOff x="7454880" y="6004080"/>
            <a:chExt cx="866880" cy="641160"/>
          </a:xfrm>
        </p:grpSpPr>
        <p:pic>
          <p:nvPicPr>
            <p:cNvPr id="181" name="AutoShape 23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7454880" y="6004080"/>
              <a:ext cx="866880" cy="64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7467480" y="6019920"/>
              <a:ext cx="8384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103" dur="indefinite" restart="never" nodeType="tmRoot">
          <p:childTnLst>
            <p:seq>
              <p:cTn id="104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105" nodeType="clickEffect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111" nodeType="clickEffect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117" nodeType="clickEffect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123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808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old must you be before you can become a State Legislato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Oval 4"/>
          <p:cNvSpPr/>
          <p:nvPr/>
        </p:nvSpPr>
        <p:spPr>
          <a:xfrm>
            <a:off x="990720" y="3352680"/>
            <a:ext cx="38088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5"/>
          <p:cNvSpPr/>
          <p:nvPr/>
        </p:nvSpPr>
        <p:spPr>
          <a:xfrm>
            <a:off x="990720" y="3962520"/>
            <a:ext cx="38088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6"/>
          <p:cNvSpPr/>
          <p:nvPr/>
        </p:nvSpPr>
        <p:spPr>
          <a:xfrm>
            <a:off x="990720" y="4648320"/>
            <a:ext cx="38088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7"/>
          <p:cNvSpPr/>
          <p:nvPr/>
        </p:nvSpPr>
        <p:spPr>
          <a:xfrm>
            <a:off x="990720" y="5257800"/>
            <a:ext cx="38088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1600200" y="32767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 years ol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1600200" y="38862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1 years ol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1600200" y="4572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 years ol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1600200" y="51814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5 years ol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15"/>
          <p:cNvGrpSpPr/>
          <p:nvPr/>
        </p:nvGrpSpPr>
        <p:grpSpPr>
          <a:xfrm>
            <a:off x="1752120" y="3200400"/>
            <a:ext cx="1753200" cy="609480"/>
            <a:chOff x="1752120" y="3200400"/>
            <a:chExt cx="1753200" cy="609480"/>
          </a:xfrm>
        </p:grpSpPr>
        <p:sp>
          <p:nvSpPr>
            <p:cNvPr id="193" name="Line 13"/>
            <p:cNvSpPr/>
            <p:nvPr/>
          </p:nvSpPr>
          <p:spPr>
            <a:xfrm flipH="1">
              <a:off x="1752120" y="3200400"/>
              <a:ext cx="1676520" cy="609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14"/>
            <p:cNvSpPr/>
            <p:nvPr/>
          </p:nvSpPr>
          <p:spPr>
            <a:xfrm>
              <a:off x="1828800" y="3200400"/>
              <a:ext cx="1676520" cy="609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Group 16"/>
          <p:cNvGrpSpPr/>
          <p:nvPr/>
        </p:nvGrpSpPr>
        <p:grpSpPr>
          <a:xfrm>
            <a:off x="1752120" y="3809880"/>
            <a:ext cx="1753200" cy="609480"/>
            <a:chOff x="1752120" y="3809880"/>
            <a:chExt cx="1753200" cy="609480"/>
          </a:xfrm>
        </p:grpSpPr>
        <p:sp>
          <p:nvSpPr>
            <p:cNvPr id="196" name="Line 17"/>
            <p:cNvSpPr/>
            <p:nvPr/>
          </p:nvSpPr>
          <p:spPr>
            <a:xfrm flipH="1">
              <a:off x="1752120" y="3809880"/>
              <a:ext cx="1676520" cy="609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18"/>
            <p:cNvSpPr/>
            <p:nvPr/>
          </p:nvSpPr>
          <p:spPr>
            <a:xfrm>
              <a:off x="1828800" y="3809880"/>
              <a:ext cx="1676520" cy="609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19"/>
          <p:cNvGrpSpPr/>
          <p:nvPr/>
        </p:nvGrpSpPr>
        <p:grpSpPr>
          <a:xfrm>
            <a:off x="1676520" y="5105520"/>
            <a:ext cx="1752120" cy="609480"/>
            <a:chOff x="1676520" y="5105520"/>
            <a:chExt cx="1752120" cy="609480"/>
          </a:xfrm>
        </p:grpSpPr>
        <p:sp>
          <p:nvSpPr>
            <p:cNvPr id="199" name="Line 20"/>
            <p:cNvSpPr/>
            <p:nvPr/>
          </p:nvSpPr>
          <p:spPr>
            <a:xfrm flipH="1">
              <a:off x="1676520" y="5105520"/>
              <a:ext cx="1676160" cy="609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21"/>
            <p:cNvSpPr/>
            <p:nvPr/>
          </p:nvSpPr>
          <p:spPr>
            <a:xfrm>
              <a:off x="1752480" y="5105520"/>
              <a:ext cx="1676160" cy="609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Text Box 22"/>
          <p:cNvSpPr/>
          <p:nvPr/>
        </p:nvSpPr>
        <p:spPr>
          <a:xfrm>
            <a:off x="3886200" y="3352680"/>
            <a:ext cx="487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Correct</a:t>
            </a:r>
            <a:endParaRPr b="1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AutoShape 23"/>
          <p:cNvGrpSpPr/>
          <p:nvPr/>
        </p:nvGrpSpPr>
        <p:grpSpPr>
          <a:xfrm>
            <a:off x="7454880" y="6004080"/>
            <a:ext cx="866880" cy="641160"/>
            <a:chOff x="7454880" y="6004080"/>
            <a:chExt cx="866880" cy="641160"/>
          </a:xfrm>
        </p:grpSpPr>
        <p:pic>
          <p:nvPicPr>
            <p:cNvPr id="203" name="AutoShape 23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7454880" y="6004080"/>
              <a:ext cx="866880" cy="64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7467480" y="6019920"/>
              <a:ext cx="8384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159" dur="indefinite" restart="never" nodeType="tmRoot">
          <p:childTnLst>
            <p:seq>
              <p:cTn id="160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161" nodeType="clickEffect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167" nodeType="clickEffect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173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179" nodeType="clickEffect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2T19:28:00Z</dcterms:created>
  <dc:creator>Jeff</dc:creator>
  <dc:description/>
  <dc:language>en-US</dc:language>
  <cp:lastModifiedBy>forrestf</cp:lastModifiedBy>
  <dcterms:modified xsi:type="dcterms:W3CDTF">2010-11-16T03:15:33Z</dcterms:modified>
  <cp:revision>86</cp:revision>
  <dc:subject/>
  <dc:title>Slide 1</dc:title>
</cp:coreProperties>
</file>